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A8A-3C63-4A5F-989F-6CC018BE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6C4-C96A-465D-812E-665B3035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C9795-16D4-4A0B-98C1-20EEA29D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19176-5F3F-4168-ACBD-9CBE3A82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AC16B-2919-48E4-B903-27EC6030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985CB-523B-4B4D-9FB2-D60B1A38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92BC0-922B-4187-BF6D-518E6415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FE182-FB0C-4411-977E-2CC78573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281C3-05A9-40FA-835C-CC983572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96474-3C06-468A-AC28-77C39EFB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FA5EF-A237-4810-8FD8-1B680AB9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0214A-046A-4472-B1BE-471104F0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E00-5683-4448-B705-A9DC7B4D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40057-3FA9-46B8-B5B6-81F8979B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42875-5C3F-44AA-A060-A42BDF9A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F3DE0-B2BD-4312-B92B-A4A38FDE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20B83-DE06-430F-BC56-99EDE54F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B7776-78D9-4269-B67F-CCC69E25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B3D41-BDA8-49D2-8054-8324FED4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E122A-48EA-4D20-8105-A1090A83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C8268-220E-4D20-B1D5-E590C853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AEFD4-A934-499D-B033-500506C8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8BF82-9EEC-4F4F-8DBA-A3DB5CD4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4B10-764F-4F79-8E98-70A5E63C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8409A-6EA0-4302-9CE8-5BA96EB5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4A43C-B070-4825-8900-4296D690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D132F-849D-4AC3-AEB3-D5B52C2D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0CA21-0F04-45B2-A5C5-CDF1E358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F9AF7-CE7D-40A4-9A8B-4ED7DCC0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12E94-E1B9-4C94-ACD9-C81BB03D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849AD-146E-4083-B241-A09EB59B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5C588-D707-4154-9931-7B386B97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F17C2-072D-47A1-AFF3-FE123383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4D6E3-180C-4D4F-B27D-6AD57FF5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5C33-8648-47BB-A245-50D6C8F3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1F029-95F5-460A-AD80-9F043805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D0D23-E9DB-4663-A1DD-FA585907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9DCFA-F531-4E2E-9F3B-002D6142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07CBE-4780-4505-A2D6-E07070D2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A07FB-E884-4F06-87CF-B86F6B1E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C60AE-BB69-451E-ABF6-7B92297F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A57A4-8F5E-4A12-BFD6-717F319F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B7CA0-A2F3-4B1F-9933-B346B3F9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300D2-2877-4717-87A1-7E81C855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ACE8D-2DAC-49B9-A0CB-0EC7EE70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9C1B-5857-4C90-917B-0423C198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AEF0F-E448-4DE5-AE4D-1D91756A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DE9A1-EDDA-4212-BBF8-97019976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062E2-6CCA-4838-B2C6-15C3B98B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59F1F-C8FF-45F3-9D05-A2F861FF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E4BB0-6B08-4182-8CB7-8C60B17C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7E36C-59D4-441E-8C3D-B527E765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63F84-26E4-4A47-830B-0B8D358C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3C8CA-9230-40AA-B721-59CF0186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A3FD3-D2EB-425B-871D-59B90FB7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9BBD7-852A-4D45-8CD2-BF5B67FA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5B76-F4A6-4E94-AA26-D7F451D9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E55380-D0A8-4A35-BFF7-61D37467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00169-7285-4FD1-BCC8-697AF9E5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A1723-CC0F-40D8-8A36-79BC649F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2B9AE-056D-409A-B9AF-6D4CE1EE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D4900-15C2-4C77-9466-4B19DA30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039B0-F17F-4AA4-B0B0-65F59BDB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A6041-687D-470B-BCC2-43312BD4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F100A4-005C-4C7A-8C0D-7734FE9A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E37CB-1C8E-4BA5-9582-523CDCB0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E9A86-D0D0-4914-930E-24EFFB1B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0E4F-3F11-4B1D-AC79-F6CDA522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D74583-7CF7-4F9D-A645-F565B379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2B32E-4258-4FBC-BA2C-0AE344AE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F4119-536E-4519-BF6A-883868AC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7205E-30C1-417F-AAFC-67D3CA22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CABAFA-3B49-4E4E-B711-8D4EB2C9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CBA1C5-01C5-4CF7-A084-03F9BB31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39958-C66E-4D14-B80C-53D8C038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821E90-3208-4FE4-B32E-4D13BCB4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9BD21-5679-4306-8B9C-5E62F37C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3BAEE-EA16-4B32-812F-9C8EFD79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5717-8674-45DB-ACAC-16CA281C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2CA0CE-D2F4-4120-AEBC-792FDB25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B4177A-8BB8-4B58-BB7A-11E740D9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483DE4-6106-4A9B-A43E-270DFDCD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18F9F1-9272-481E-9141-3248A239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9E3379-1579-4F1B-B079-510BC363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A3BA11-4E43-424D-A2F2-521B0F6D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0594E2-9B99-47B7-87E8-41E228B4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7F54C7-53F1-4843-B1D2-389A502F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A916DC-33E2-4675-A4F5-BE556F69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71D799-F411-4333-A419-01584A67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9B1B-0B9D-4572-B189-DF1F08F7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43404E-C4EF-44A7-B7F4-09DDCA85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AA978A-A665-4030-AC3F-B23CADA3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DA686A-1221-4925-937F-4CE592F3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C4989A-35BB-4D4B-8B11-1DAD9608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A8736C-7547-4BEC-9031-775B000F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058469-4AA9-4119-A996-C0EFD7AD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0DCAC-FEBD-4CE4-AADC-6C06A5C4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5FA91F-E68A-4A58-BE5C-FD422FEB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D2C3D7-8ED6-4DA0-A196-F8D3F2F7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54BE2E-7D35-4F1B-8534-7C237134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E594-0371-4C07-BDBE-E65CC098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3D0B8C-5EFB-4E5D-9097-693E039C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91D228-CAF3-4B67-887F-FDADA1B3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FFDCBE-58F8-4543-BBE0-796455A6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829E20-33D4-47C9-A230-E15C5492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1E6824-04BE-4123-B5F3-CE9FE61B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55A7D0-3233-49EC-A0EE-8A686242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675ECD-0F28-4D11-B568-9ADAE2B4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DD0FF0-5B1A-48F3-BFA7-A876073C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C367E7-1E62-49AF-8269-94B75A55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4D686F-E8D3-4EE1-9C67-3C32D739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3E2-7F08-4544-B4A0-516DC4B3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EC4F-AA80-44B3-959B-AB943CF5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D27F84-26B4-4425-85A0-83E69BA3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998122-3920-4DAA-8785-CAE8C136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71F202-119D-4D12-8684-CB789B67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107764-5874-4B05-97C1-40CAB734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40471A-ED38-4FAF-A97F-D9DD65D1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9D077A-B024-44EE-9DE3-A3D90100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F2BEC-21AD-4E6F-95AD-307C3CE5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4DEF88-A5B3-47AC-AEB4-C30D5888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7885EB-ACAD-4C6E-BBB9-A0665099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2C3659-3483-4A89-920B-A9A0CCFA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B76F-1E93-445D-91CB-830CAEDA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ED5B39-719A-430F-AF53-6B311E3E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4AA46D-956E-483F-AA1E-8D39E7A3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270A38-CF50-4604-AAC8-148F6E5C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DD37F6-0935-45E5-90EB-46264864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18973F-9046-451C-B937-3DCD982A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F3697C-6B8B-439B-94E8-A07017F9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B7D4E9-0C4B-4414-B844-D543897D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B85CC1-1F2C-4323-90E2-AB84D1EE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A2512D-35F5-4BE2-AAE5-994BBA7F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C23D32-A093-4676-BA60-C0382187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6F1A-C4B0-4903-A9F5-F3406FF8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95F062-E9FA-4756-84B3-2115D588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2D5679-42EF-4FBB-88A5-1DBB4F73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C306DD-88F9-4492-84A1-EA14618F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BC0E3E-A820-4D0F-84AF-808C3405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984C71-8A52-4CB4-AF88-2869D171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A397F4-FBB3-42A6-9AA4-D3759713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0A8875-9CDD-4AD6-842F-1F21B213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2C041C-87D2-44C7-B12C-0549D5A6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29F531-2FD9-49B1-A3E3-92F9FC7D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2EFD55-AA08-412D-996C-47A70E26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7F9C-E8B7-4C3B-9B8D-CED60E26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FD1E4C-2BB4-432B-922C-A6D1D4B8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497445-DDCC-441A-A62E-938ACFC4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7F2740-B7B6-492F-8BCD-9B71BC3F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4A784A-A4DE-48C9-B3F3-819479D7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2F50F5-B486-4378-AA9A-BAFDF42F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EF396C-36C4-47AA-B293-4BE1F7A7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0C8B73-5581-49B2-A7C0-D63502A1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C809EF-22E1-4FB0-BCA5-EBFD44A0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084263-5B68-429C-8D70-1571C575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40AC7D-7A3C-4C34-A90C-1702847D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A1E8-0C36-49EE-9C32-7898FA0D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F3C6E6-A55E-4A19-A0C1-E3F993BC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408087-8220-4684-B5F5-A374CDE8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0016FC-C062-4FE2-B911-6873DD3A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035B86-E5AF-4FE1-B5D4-4E616EC0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687370-DFD8-423F-A915-6E74F745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91708C-8DBF-44B8-B934-AAD85274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2986A1-BC99-44B2-84AD-3F140471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D4F53A-7BEC-419E-85C0-FE111AA5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5226E2-4B5C-4B6E-BD78-4DC235E4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5EF85A-8E8E-46A9-86D3-112D1F33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7F058-1B5B-458F-93E2-914A8C17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7D36E4-20D3-4E36-9666-F6204583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3EB202-C6FC-482C-BB7E-4253C8DC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BF3E29-8F94-4408-AFAE-3C880F7E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D7039-D8C2-49D0-8B21-8A21814A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F9EB8-385B-4617-86DC-1469482E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0CD15-0182-49B9-AEF6-E61A6B01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B5A99-32DC-4A43-81F6-0554DC6E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555-2281-49AE-9521-023C67CA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0A88A-D200-4D94-B0AE-CA880B88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84744-AE61-4652-B05E-E2B166AF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7227A-A662-43C3-AC87-98160143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0A3F0-8D28-46D2-B87B-80F6A2D9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43A35-DE5E-4B5F-98EA-A96134CD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5DCAA-38CE-438F-8FEA-79D2D5A6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9326E-4693-4821-B33D-1709F31B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94BAB-97E0-4137-9DFB-9558E2D4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D4AAE-D6B9-42C7-B713-895D9BA4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62150-963B-4CD6-9105-413B27AE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5F2-C82D-4A5A-8B1C-17CCD0A8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67287-F3A2-4761-95AE-B31A53B4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3414D-AE1D-42CE-9864-E4DFE7F2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28679-DD0A-479F-BC56-B1CAC8E0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B5FAC-081B-4FBD-B435-82903037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5D93A-3C6D-4368-9563-72886506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0D34F-109F-41F9-B30C-7E1C6F33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D4EED-BF25-45E7-9484-1C00798F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E1B1D-C806-4CF5-8D2B-E60EE9EE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AA537-19B1-4E86-BC3C-21F97261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A8F87-B86F-4CBD-8745-34D2C68E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A2D-E8B3-443D-B326-FFDBC4EA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8BE8E-607E-4CC6-A612-42C29463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A50A1-6AE6-44A6-A58A-CE55EECE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A1131-3FC9-432C-A6AC-F7F3562C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33D28-F2C2-4C61-ADB4-8F7F8EEF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3EFE3-1D34-463B-83F6-B685E76C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E2498-EE71-4C9D-ADA5-D830946A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A015A-6B0D-4472-9D3A-C1048F2C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91589-6AF8-4409-8C60-7F91FAD1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F8F4C-2C85-43E8-8C68-49452A9B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1A89E-725B-4CC3-8B09-4DB6D782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AA58-B6B4-414D-AC9D-05C3E997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FFAB5-B683-47C1-9371-C5B0F4BD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66C7C-CBED-4290-B0C4-D706233B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3CBE5-63B6-42DD-9E54-D4244169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DC9D6-7981-429E-95DF-33311249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462F2-CAA2-4787-BA91-C408C52A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384BD-9695-41A0-BB90-E33A2718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0C141-1CDC-426D-AB1F-16363B95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38662-D658-4D4B-84C4-2E94413F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58DBC-665B-421D-B2C6-B7686DA2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C5DFD-075C-4190-8ED1-DE3D058C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60F-D3A5-41D3-A103-41022FFF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0C6FB-1053-4388-8371-1B6F94CD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08148-0F52-4B6C-B565-32AA268E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AC0AA-DB7D-41C5-9CC4-6742CDA5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875CB-DD59-4AF8-8D55-F4098F65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70FF8-B8F4-41A3-B7D9-260E37D1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3EA7C-73B6-4C87-9402-B106F01D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C97BB-F9BF-4BA7-9B0F-4D102D95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5CF0F-242D-4D8A-BA8C-FE1BF80A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2AE6D-7125-489D-A22B-A4CD3BE8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DCE8A-1AF6-4EA5-8645-ECEE4D77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70E-4177-4EDE-8080-4EFB4E66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52D3C-4DEB-4356-B3BC-D1EC7891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934AE-7A29-47E5-B91C-5770EE78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2AD81-01E7-4063-A950-12A88E1F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DE624-BF55-490A-9CF3-BE85AF64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049B0-C293-4D2B-9E9E-AEEE039D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E105B-C614-4300-833B-7751C03A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BB262-F87A-4FBA-B26B-74A8251E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D275F-17DD-4156-87C1-FEE95393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4E802-81DA-4E0D-AE76-04562FF0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722D4-5576-481D-986E-DE56D0BF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DC35-91EB-4379-8DFE-54B65C26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E9B04-C407-448F-A0BD-1A62E208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F6B31-893E-40CE-BCF0-BCCBC3A3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08543-E60A-4458-862E-ED07BFE3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F4FA8-C84F-45D2-BE81-2CDBB626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4F36E-8F35-4B82-B4BF-6D8B5CFC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8DC92-7955-4648-9AB9-C501ECA1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CD1EE-D7FE-450E-9D5E-D2A15D95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27707-5E4A-4D32-BA31-5FC6C16C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DEBD2-E4BE-4068-B029-32E5DE77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3CEF5-2171-4E77-A8B7-F3BF46C7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3EB3-FEBC-44CE-AEE3-1407482423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E721-4221-4DF5-A976-F37A393DE2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916A-CE28-4B05-962B-694A3783D3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FFC1-A834-47A0-9CB5-9E73E1603F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E7E6-7631-440D-A208-48E78B45D5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5553-AFC1-4064-8AE5-6203F3C587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1186-D394-4B9E-8F82-13D3F37478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CE8D-B58F-4052-ADA9-777F1D0619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9636-58AE-41FD-9079-4FCCFB7C60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B22C-A804-41F4-A40F-987BF59325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BD4E-6935-4323-91AA-D1D5A95370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84E4-CE58-4081-853B-82B165EF57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42B6-2513-4FDA-B4C0-2E0FDD27A8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BA0B-7577-4AA9-94E7-CE06B1B9A4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B959-3352-46AC-9BC9-50E7A567B7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1D7C-D455-4501-A5F5-2BF78D4EA9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2BA3-BBAB-4FDF-B5EC-92219B2014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0C1C-9199-4AEC-A280-D6AF516EAB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A0E7-5862-4141-96F1-CA6E91CDAA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9378-5C1E-4B97-8F93-345EA8155E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ED0A-0CF2-4EE6-B147-61190659CA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4745-0EC7-42D0-9593-F38A0F21BA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BF0D-379A-41E6-90C5-DD96B39270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C326-40F8-41E5-8756-99B10B330F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877E-31B7-478A-9819-9A32FB882E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0D37-D687-415C-B2E5-51BDBA3ABA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A036-DA74-4916-8C88-12AF488877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B989-17D3-4CEB-8AE4-6B6B4C83A3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485C-43D3-48B2-AB61-3C1D0E296C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0BAB-08F5-4E9F-8B49-6ED5A61CE8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7189-BD6D-4C8C-BA80-38090E1485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BF8F-9FCE-4B0C-BD83-2485072D4E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D7B8-F81A-46F0-A1EB-FB55FE00CB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B78A-F76A-48B0-B02F-27C62C942A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F36F-DABC-4052-B6ED-B1DFD1FCEF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D581-430F-4E6D-BABF-B1103A7FC7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23AF-ED9B-45F2-B227-EF904DA4C0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51CA-83EE-4EF8-ACD6-28614D9418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9DE7-B08B-4F54-8FC0-136BD226F3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4B4D-FB4A-4770-9923-29C8B64EEE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84106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9633" descr=""/>
          <p:cNvPicPr/>
          <p:nvPr/>
        </p:nvPicPr>
        <p:blipFill>
          <a:blip r:embed="rId1"/>
          <a:stretch/>
        </p:blipFill>
        <p:spPr>
          <a:xfrm>
            <a:off x="243000" y="771480"/>
            <a:ext cx="8658000" cy="56102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2340000" y="3170160"/>
            <a:ext cx="446400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2340000" y="380376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3059280" y="445140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2987640" y="511344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6084720" y="5791320"/>
            <a:ext cx="230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66760" y="573120"/>
            <a:ext cx="8610480" cy="60958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708360" y="1527120"/>
            <a:ext cx="230364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292720" y="234936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236000" y="229068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164360" y="387504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498920" y="4653000"/>
            <a:ext cx="100980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924360" y="540216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792440" y="6180120"/>
            <a:ext cx="1009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566640" y="2738520"/>
            <a:ext cx="8010720" cy="1380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6689880" y="2781360"/>
            <a:ext cx="1539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281160" y="946080"/>
            <a:ext cx="8581680" cy="536256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58374" descr=""/>
          <p:cNvPicPr/>
          <p:nvPr/>
        </p:nvPicPr>
        <p:blipFill>
          <a:blip r:embed="rId2"/>
          <a:stretch/>
        </p:blipFill>
        <p:spPr>
          <a:xfrm>
            <a:off x="1504800" y="3905280"/>
            <a:ext cx="73440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7352" descr=""/>
          <p:cNvPicPr/>
          <p:nvPr/>
        </p:nvPicPr>
        <p:blipFill>
          <a:blip r:embed="rId1"/>
          <a:stretch/>
        </p:blipFill>
        <p:spPr>
          <a:xfrm>
            <a:off x="738360" y="2557440"/>
            <a:ext cx="7667280" cy="17431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5003640" y="3184560"/>
            <a:ext cx="316872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2714760" y="3687840"/>
            <a:ext cx="287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6324" descr=""/>
          <p:cNvPicPr/>
          <p:nvPr/>
        </p:nvPicPr>
        <p:blipFill>
          <a:blip r:embed="rId1"/>
          <a:stretch/>
        </p:blipFill>
        <p:spPr>
          <a:xfrm>
            <a:off x="590400" y="209520"/>
            <a:ext cx="7963200" cy="643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476360" y="2637000"/>
            <a:ext cx="259092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1533600" y="3371760"/>
            <a:ext cx="259056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5292720" y="2622600"/>
            <a:ext cx="259092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5392800" y="3357720"/>
            <a:ext cx="23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5435640" y="489744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7"/>
          <a:stretch/>
        </p:blipFill>
        <p:spPr>
          <a:xfrm>
            <a:off x="1433520" y="5430960"/>
            <a:ext cx="155412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8"/>
          <a:stretch/>
        </p:blipFill>
        <p:spPr>
          <a:xfrm>
            <a:off x="2556000" y="5992920"/>
            <a:ext cx="273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285840" y="809640"/>
            <a:ext cx="8572320" cy="5238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7667640" y="170028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7596360" y="299736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7596360" y="43070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7667640" y="560376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4276" descr=""/>
          <p:cNvPicPr/>
          <p:nvPr/>
        </p:nvPicPr>
        <p:blipFill>
          <a:blip r:embed="rId1"/>
          <a:stretch/>
        </p:blipFill>
        <p:spPr>
          <a:xfrm>
            <a:off x="223920" y="976320"/>
            <a:ext cx="8696160" cy="49053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2239920" y="2133720"/>
            <a:ext cx="432000" cy="3823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2239920" y="2982960"/>
            <a:ext cx="432000" cy="3826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1692360" y="3832200"/>
            <a:ext cx="431640" cy="3826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2368440" y="3860640"/>
            <a:ext cx="432000" cy="3826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1692360" y="5343480"/>
            <a:ext cx="431640" cy="3826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7"/>
          <a:stretch/>
        </p:blipFill>
        <p:spPr>
          <a:xfrm>
            <a:off x="2368440" y="5372280"/>
            <a:ext cx="432000" cy="3823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8"/>
          <a:stretch/>
        </p:blipFill>
        <p:spPr>
          <a:xfrm>
            <a:off x="2987640" y="5345280"/>
            <a:ext cx="432000" cy="38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2231" descr=""/>
          <p:cNvPicPr/>
          <p:nvPr/>
        </p:nvPicPr>
        <p:blipFill>
          <a:blip r:embed="rId1"/>
          <a:stretch/>
        </p:blipFill>
        <p:spPr>
          <a:xfrm>
            <a:off x="404640" y="843120"/>
            <a:ext cx="8334720" cy="51717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1042920" y="5487840"/>
            <a:ext cx="381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8:05:3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